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-360" y="-6471000"/>
            <a:ext cx="360" cy="14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-6470640"/>
            <a:ext cx="144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206-E325-4B75-868C-B117C141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C9E2-588F-44A4-B2E5-24B237BC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3CF3-CCEB-4F49-83DF-B8639F73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63600"/>
            <a:ext cx="2646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9B19-53D3-4A05-BB80-D2B58084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8EB-D36F-495D-94E5-0E2ABFF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06BD-1747-4B10-8069-23C0DA48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32D-DD48-48ED-BA5E-1835F15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DD1-11D8-44DC-B492-D26F68738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B72-CF21-4AA6-AC8F-6BF9D51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1C80-1AB1-4B67-90B2-4CD2AEA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636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55A-5D8C-4B97-98AB-86C9AE90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0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07F-0C5F-4F60-AD2F-42D50D2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-33336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-276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24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86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243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C0291-29FE-4606-8608-E572ACEBE2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2                                              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Motivi za redudansu {eme RB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manjivanje broja operacija spaj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manjivanje broja podup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manjivanje broja operacija svo|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u{tina redudanse {eme RB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U RBP su suvi{no (redudantno) evidentirani podaci koji se mogu izvesti iz drugih (izvornih) podat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2                                               b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Implementacija redudanse je dvoj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Strukturn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dopuna {eme RBP redudantnim podacima, i to na jedan od dva mogu}a na~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uvo|enjem novih kolona u postoje}e tabe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uvo|enjem novih tab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Manipulativn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dopuna postupaka odr`avanja sa onima koji }e odr`avati redudantne podatke tako da uvek budu u skladu sa izvornim, i to na jedan od dva mogu}a na~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dopunom postupaka odr`avanja na nivou aplikaci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aktivnim komponentama na nivou baze podat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2                                               c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5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Uvo|enje redudanse {eme RBP podrazume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Dobijamo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ojednostavljenju upita nad RB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(ponekad) na pojednostavljenju odr`avanja RBP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brzini izvr{avanja upit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Gubimo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dodatnom prostoru za redudantne podatk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3320" indent="0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dodatnim postupcima odr`avanja podat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U praksi je ~esto kriti~na brzina. Sa druge strane, odr`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nije zbog manuelnog u~e{}a, a prostor se pove}ava po `el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2                                               d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6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ostoje dve vrste redudanse {eme RB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Replikativna redudans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Su{tina je  da se `eljeni izvorni podaci upita  nalaze u istoj tabeli, ~ime se izbegava formiranja reda upita spajanjem i/ili podupi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Svodna redudans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Su{tina je da se `eljeni izvorni i svodni podaci upita nalaze u istoj tabeli, ~ime se izbegava formiranje reda upita svo|enjem, i/ili spajanjem i/ili podupi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31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2                                               e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rimer: BIBLIOTE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OBLAST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Obl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Naziv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NASLOV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Nas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Naziv,IDObl,</a:t>
            </a:r>
            <a:r>
              <a:rPr b="0" i="1" lang="en-GB" sz="2400" spc="-1" strike="noStrike">
                <a:solidFill>
                  <a:srgbClr val="008000"/>
                </a:solidFill>
                <a:latin typeface="YU Arial"/>
              </a:rPr>
              <a:t>NazivOblasti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)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ko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KNJIGA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Knj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Status,ID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CLAN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Cl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Ime,Vrsta,</a:t>
            </a:r>
            <a:r>
              <a:rPr b="0" i="1" lang="en-GB" sz="2400" spc="-1" strike="noStrike">
                <a:solidFill>
                  <a:srgbClr val="800000"/>
                </a:solidFill>
                <a:latin typeface="YU Arial"/>
              </a:rPr>
              <a:t>BrojPozajmic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)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ko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OZAJMICA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Poz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IDCla,IDKnj,D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008000"/>
                </a:solidFill>
                <a:latin typeface="YU Arial"/>
              </a:rPr>
              <a:t>CLAN_NASLOV (</a:t>
            </a:r>
            <a:r>
              <a:rPr b="0" i="1" lang="en-GB" sz="2400" spc="-1" strike="noStrike" u="sng">
                <a:solidFill>
                  <a:srgbClr val="008000"/>
                </a:solidFill>
                <a:uFillTx/>
                <a:latin typeface="YU Arial"/>
              </a:rPr>
              <a:t>IDCla,IDNas</a:t>
            </a:r>
            <a:r>
              <a:rPr b="0" i="1" lang="en-GB" sz="2400" spc="-1" strike="noStrike">
                <a:solidFill>
                  <a:srgbClr val="008000"/>
                </a:solidFill>
                <a:latin typeface="YU Arial"/>
              </a:rPr>
              <a:t>)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tab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2400" spc="-1" strike="noStrike">
                <a:solidFill>
                  <a:srgbClr val="800000"/>
                </a:solidFill>
                <a:latin typeface="YU Arial"/>
              </a:rPr>
              <a:t>VRSTA_OBLAST (</a:t>
            </a:r>
            <a:r>
              <a:rPr b="0" i="1" lang="en-GB" sz="2400" spc="-1" strike="noStrike" u="sng">
                <a:solidFill>
                  <a:srgbClr val="800000"/>
                </a:solidFill>
                <a:uFillTx/>
                <a:latin typeface="YU Arial"/>
              </a:rPr>
              <a:t>Vrsta,NazivOblasti</a:t>
            </a:r>
            <a:r>
              <a:rPr b="0" i="1" lang="en-GB" sz="2400" spc="-1" strike="noStrike">
                <a:solidFill>
                  <a:srgbClr val="800000"/>
                </a:solidFill>
                <a:latin typeface="YU Arial"/>
              </a:rPr>
              <a:t>)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tab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YU Arial"/>
              </a:rPr>
              <a:t>Replikativna 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i  </a:t>
            </a:r>
            <a:r>
              <a:rPr b="0" lang="en-GB" sz="2400" spc="-1" strike="noStrike">
                <a:solidFill>
                  <a:srgbClr val="800000"/>
                </a:solidFill>
                <a:latin typeface="YU Arial"/>
              </a:rPr>
              <a:t>svodna 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redudan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3                                               f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rimer: BANKA - bez reduda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VRSTA_RACUNA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Vrs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Naziv)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RACUN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Rac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Naziv,IDVrs)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TAVKA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Rac,RedBr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Datum,IznosUpl,IznosI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Za 10 vrsta ra~una, 1.000  ra~una po vrsti i 1.000  stav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o ra~unu treb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abrati 1000 stavki za uvid u stanje jednog ra~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abrati 1.000.000  stavki  za stanje jedne vrste ra~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abrati 10.000.000 stavki za stanje cele ban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31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3                                                g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rimer: BANKA - sa redudan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VRSTA_RACUNA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Vrs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Naziv</a:t>
            </a:r>
            <a:r>
              <a:rPr b="0" lang="en-GB" sz="2400" spc="-1" strike="noStrike">
                <a:solidFill>
                  <a:srgbClr val="800000"/>
                </a:solidFill>
                <a:latin typeface="YU Arial"/>
              </a:rPr>
              <a:t>,Uplata,Isplata)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RACUN 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Rac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Naziv,IDVrs</a:t>
            </a:r>
            <a:r>
              <a:rPr b="0" lang="en-GB" sz="2400" spc="-1" strike="noStrike">
                <a:solidFill>
                  <a:srgbClr val="800000"/>
                </a:solidFill>
                <a:latin typeface="YU Arial"/>
              </a:rPr>
              <a:t>,Uplata,Isplata)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TAVKA(</a:t>
            </a: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IDRac,RedBr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,Datum,IznosUpl,IznosIs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ada se dob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2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tanje jednog ra~una - odm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93000"/>
              </a:lnSpc>
              <a:spcBef>
                <a:spcPts val="2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tanje cele banke - kao zbir 10 vrsta ra~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Treba obezbediti: Da se prilikom svake uplate ili is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a`uriraju svodni podaci za ra~un i vrstu ra~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31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3                                                h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Manipulativna implementacija redudan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7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Na nivou aplikacije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postupci odr`avanja podataka se dopunjuju sa postupcima odr`avanja redudantnih podat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7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 u="sng">
                <a:solidFill>
                  <a:srgbClr val="0000ff"/>
                </a:solidFill>
                <a:uFillTx/>
                <a:latin typeface="YU Arial"/>
              </a:rPr>
              <a:t>Na nivou baze podatak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postoje dva na~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reko procedura baze podataka koje realizuju cel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konkretne situacije odr`avan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*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reko okida~a baze podataka koji reaguju na ne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7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doga|aj i uslovno sprovode neku akci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808080"/>
                </a:solidFill>
                <a:latin typeface="YU Arial"/>
              </a:rPr>
              <a:t>SI3IS1  </a:t>
            </a: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2.1.2                                               i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YU Arial"/>
              </a:rPr>
              <a:t>Kopromisno restrukturiranje - Redudan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Elementi okida~a baze podata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Aktivacij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 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re ili po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Opseg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red, naredba, transa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Referenc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referisanje (novo ili/i st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Uslov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uslov sprovo|enje ak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YU 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YU Arial"/>
              </a:rPr>
              <a:t>Akcija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: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	</a:t>
            </a: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postupci koji se spov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To je ECA ("Event-Condition-Action") pravi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YU Arial"/>
              </a:rPr>
              <a:t>SQL podr`ava konstrukciju 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ti</dc:creator>
  <dc:description/>
  <dc:language>en-US</dc:language>
  <cp:lastModifiedBy>rti</cp:lastModifiedBy>
  <cp:revision>0</cp:revision>
  <dc:subject/>
  <dc:title>SI3IS1  2.1.3                                       a Projektov</dc:title>
</cp:coreProperties>
</file>